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6FA0-0AE9-4A11-B75F-3F592AA6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624-79D0-4AC5-9FFB-04856784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6D34-AC66-449D-A235-09C5FD5A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6347-27A0-4EAC-98B5-8F9997EE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2FB4-8373-4AF8-820C-042A79BE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93DE-E7B2-4E1B-9387-11215D9D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C98D-AC79-4FE8-822D-CE4FE901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348F-FB30-4E2C-9189-E66414FA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12A0-3978-4D19-B03F-1AB66B5F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5919-BBCF-476C-BF16-44D3DE93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EA1B-1EC2-4AE5-83A8-F75A9787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1648-49F1-4B60-999D-21470AFC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458A-FDA2-4935-BAB2-47F86C01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F87A-01F2-467F-9B79-7EB5340C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A64F-C053-4C84-913B-647D3B79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0578-9DEC-4689-8D92-79EFED7F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1AB6-5B2B-4B58-84CD-D306C4A0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9FE9-414D-4F7C-8250-912E896C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AED3-835C-4401-B655-F42FE13E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633B-54A8-4018-A85A-47DBF080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5331-7EEA-4533-802D-38AA54EC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4046-6753-45D2-8872-F638DEB5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C30C-810B-4460-8FCE-4F8B6069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B1B2-E67D-4173-9839-DA5F2579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75E9-9835-467F-A9D5-83916C77EAA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EEE7-8550-46E6-89DD-73BAE201ECF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postcardsfrom.com/t1/980623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0880" y="304920"/>
            <a:ext cx="85345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Wisconsi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5943600" y="49528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5105520"/>
            <a:ext cx="2438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ron Hod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20/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670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124080" y="609480"/>
            <a:ext cx="335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0 states,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On Wisconsin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 10/7/10,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WWW.50 states. com/Wiscons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All images Copyright © 1997 - 2000 WriteLine. All Rights Reserved. Wisconsin Dells and Wisonsin River"/>
          <p:cNvPicPr/>
          <p:nvPr/>
        </p:nvPicPr>
        <p:blipFill>
          <a:blip r:embed="rId1"/>
          <a:stretch/>
        </p:blipFill>
        <p:spPr>
          <a:xfrm>
            <a:off x="1066680" y="-152280"/>
            <a:ext cx="7467840" cy="5867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09680" y="5715000"/>
            <a:ext cx="441972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stcards from America,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Wisconsin Dells, WI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ptember/23/2010 </a:t>
            </a:r>
            <a:r>
              <a:rPr b="0" lang="en-US" sz="14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http://www.postcardsfrom.com/t1/980623.html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Wsconsin: Map and State Flag"/>
          <p:cNvPicPr/>
          <p:nvPr/>
        </p:nvPicPr>
        <p:blipFill>
          <a:blip r:embed="rId1"/>
          <a:srcRect l="-2689" t="-1591" r="0" b="66141"/>
          <a:stretch/>
        </p:blipFill>
        <p:spPr>
          <a:xfrm>
            <a:off x="685800" y="465120"/>
            <a:ext cx="3429000" cy="1984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Wsconsin: Map and State Flag"/>
          <p:cNvPicPr/>
          <p:nvPr/>
        </p:nvPicPr>
        <p:blipFill>
          <a:blip r:embed="rId2"/>
          <a:srcRect l="-2689" t="35493" r="0" b="0"/>
          <a:stretch/>
        </p:blipFill>
        <p:spPr>
          <a:xfrm>
            <a:off x="3505320" y="2743200"/>
            <a:ext cx="2895480" cy="3048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43000" y="533412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’s Guide to U.S. government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quick facts Wisconsin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/14/10,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ttp://bensguide.gpo.gov/50stat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60199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571500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62120" y="2590920"/>
            <a:ext cx="2271600" cy="2438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934320" y="3657600"/>
            <a:ext cx="1904760" cy="1976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238880" y="3200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p 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571500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name: Wiscons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ital: Madi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ulation: 5,536,20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on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tto Forw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ckname: badger 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ower:  wood vio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rd Rob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ng On Wiscons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esting facts 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4114800" cy="2057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91320" y="44956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1:38Z</dcterms:created>
  <dc:creator>install</dc:creator>
  <dc:description/>
  <dc:language>en-US</dc:language>
  <cp:lastModifiedBy>install</cp:lastModifiedBy>
  <dcterms:modified xsi:type="dcterms:W3CDTF">2010-10-14T13:19:20Z</dcterms:modified>
  <cp:revision>15</cp:revision>
  <dc:subject/>
  <dc:title>Slide 1</dc:title>
</cp:coreProperties>
</file>